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7724F-568D-4A39-B9E5-E849CFDD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751FA-2276-48D4-BCA1-161DC173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2E350-1D7E-466E-8CD4-CFDB4D81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0BFD2-5188-45E5-8806-D67EE409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5DD9D-7CE3-4FB4-AEFD-C2E48488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D6F9D-8A17-4887-8746-57389A2A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A755D-2373-4170-B4EF-07DC38D8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ECAF-DF88-4E01-BD0E-E89E674A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8A078-E9E0-4CEA-88F8-E9A4267D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90253-762B-43C8-BBDC-1D0C095C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299FA-8E51-4DF7-B0A4-2FBC76FA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523FD-DF0C-4E9C-99AB-E8CD5B8B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F3F46-022B-4598-888D-33A78D56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94AD7-8DEB-4265-B0F4-1CEF94B3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3CAF-E328-43DC-B68A-64495AA2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DC4B6-06FA-4BB4-85D7-C2E45AA2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A8AEA-3146-4E00-8FC5-37DB984B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42B6A-1623-4DC5-8CE6-C763ECC3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5BA46-E1CB-4B04-B796-EB7E7D33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DA9A9-2D64-4F2D-9F22-1252B0BF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8BD79-D2B9-4659-9662-C5E127B2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B60C2-060A-45D9-BFFC-C4B9BB84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F56AA-5753-4766-AA01-195DDF3E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8680F-1A5D-4155-9839-36A04B40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E56DA-3E87-497C-BD67-E5BE9352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8769D-C248-473D-AAD7-2C27570F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C2A18-A0DD-4335-8563-F42BC9E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433A8-8519-46CC-8014-38032098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06CF9-8016-4AB2-B867-215A2C96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E18E9-FA08-4998-98F0-53A2313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432-37C9-4FA4-88A0-1C73D5C8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CA04B-031E-463B-BA68-B7CB8827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28DCF-13B2-47C7-9E7F-520D8245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49104-42C0-47DE-85EA-D03D122B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5EF6C-2CEE-4989-850B-245E5460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A9141-AE7A-4BCE-AF50-BFD7D4E8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9B8B5-271E-4D0B-BE71-B6740973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1549A-1B6C-4338-B80D-009BFEB9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518C0-EBBF-4512-B0A5-CA47021D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FA947-9D26-488C-A4AC-7C202B47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21B5C-D6EB-4172-8025-8DCD30CA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B17-3E9C-4CB1-AE93-EA3ACC9C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4F32B-CAF9-4B18-9ECF-65AF0921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DA067-4E11-4790-949A-7816E34B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8866F-997B-4AAD-A284-2ED18359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177F8-845E-43D5-B9F6-6DB99347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9A6A4-D87D-423D-B2B6-F99CEF69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B6839-7101-455E-9A99-376EBFCD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2EC54-FF32-45FE-8662-E92D42BB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8E7FB-BF59-4389-9430-3D8160DC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C43E3-6E3E-4754-8735-997D0768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C1FFA-EAC8-47C2-A156-A9AA482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588-A992-4D35-8941-15520892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64677-BD64-4D8B-8395-24A8F87A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64BA8-1500-4D53-88D8-BE56CFAE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8FBD4-CB3E-4B6C-8136-27DCD09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C58B7-D62B-417A-9816-8B3CE955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1FCD8-AE88-4026-A8F5-A94885C9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E69A3-FDE5-42D5-B37F-7843E14F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179AB-D5F8-4CC8-82A0-7DDE7AB7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EF1FC-ECE2-49FE-A7D5-0F095EB9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87B221-B12F-4549-AB6C-AECE62E5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6B637-9BA1-46B4-AE9F-0D1C7C4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AEB-462B-4ADE-8D91-EF0AD7F1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8049F-80C0-4006-8724-24725850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8D95C-81D1-4994-A0B1-580C7400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73861-A451-4213-9C3D-6061FED6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8A255-464B-4924-BAF8-FCEC81FC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00366-FE63-4E62-9C96-536D8B90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F67E0-C5F3-4A7A-891B-ABDB54A7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34EF6-9187-4107-B11A-41781F46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83446-3163-49BA-9839-80A944B5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52942-A36A-45B2-962A-40C41314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943-F4AC-47A6-B685-B628D7DD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8F8-2930-4E4B-BF58-95978D7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501-ED8E-44B9-B5E3-D63220A3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3BFB-1E7B-47A6-9D07-423B9D4D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813-FC16-49AE-807F-308B134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13A-88B0-4548-A634-D89C7B9F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1F7-E3DB-489F-A4C4-4AAAD733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656-FC0C-470D-BBF2-8031DE48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CCAE-648F-48F0-93EA-B41168A0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DA78-71F9-4B83-BABE-9FE7F7A2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6645-6BCC-4F4A-9353-E2A09E8C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ED62-DCFF-4DC9-BB88-99AB0494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8FF5-1188-40C5-A3FD-DB14A9CD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40F3-BAC2-479C-B3FC-4C9D4901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2A66-85C1-46DE-B671-95C43E88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A109-9A3D-41E3-A083-9A6EC793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723E-166D-414C-B9D0-608BC9F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7083-8EF6-443C-9669-D24DFFE6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68FA-FA4C-4589-A1BB-0BAE0153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E9E2-7C19-4C8F-BBBF-6A548970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C8E0-CB39-4CB3-B18D-8C076F35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9D5E-1687-4D21-929D-6D0799E9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61656-CF5C-4AB0-AC98-94209960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65EE5-099F-4C7B-B977-FC60ADBB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9FEE-BC7F-4935-B99E-E919F64E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B26D-4FF2-4669-979B-E67196D4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48A4A-3062-4256-B43E-950B85AC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7011C-1CD2-47F1-8299-2E3AD18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00E33-22FE-4C01-B664-0CBB10F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DED3-231F-4B06-A5C9-4F34052F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47016-23BB-4F69-A7B3-73715148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0B62-F333-4BE5-BDC8-283A62C2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AC1D3-0013-45DA-947E-C595AFE3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3971B-5603-42F9-87ED-6018742B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A6DC-60F3-4B54-A65B-54DADB61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C2E11-B1A4-44AA-A3AB-1EF727E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BF640-4FD9-48BE-8AF8-3D971999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06DBB-CC8E-4BE5-A106-B030F342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498A6-14C0-49FF-8360-5F4E88B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9D2F0-397B-489D-9F67-35B1C0F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F760D-E95B-47A7-A892-A6EB72F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3A2E-1289-41BB-9D53-4586FE8D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4EFB-24C1-443C-AA1F-3CE94635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3F2A8-7779-4F92-A1D7-AA8A6D068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BF1D6-88B8-4D10-A0A7-08209225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DD6F9-02F8-483D-96B5-F41EB752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1680-4038-4F86-BCD3-E9EFD9EE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DC50A-54F9-4BF9-B9D7-366BEE77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BAEC0-14D0-4397-9B3F-2EABF40A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A2C40-5927-4DCB-B575-3853A08B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1686D-2F8E-4C98-B776-61F736E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0A41E-AA57-4246-A53D-EAFEA1CE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BE7DB-835D-468D-AB38-0EC7CDE8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C5AD7-C5E8-4B9F-82F4-0F65CA85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85BDD-912A-4D46-A67E-57308C69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EBB7-99EE-45B6-ADD6-5CB23745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2E475-A522-454C-A822-685F1C51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3CB51-1957-4563-9D15-022FCD67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C12C1-9F3D-4C90-8B0A-7BFA7933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562C7-A5AE-4041-9419-725DF55B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8824C-5019-4074-B784-5E99D805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F2A4-F4FD-49C7-AEBF-4E07054F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9071E-329D-404B-9977-AD3F80A6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8AB27-C7E5-41AB-94B1-9C606F90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98F9A-76ED-4A05-9F60-67B6B61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ED11-2F03-4FB5-BAA6-41F3C154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20A2A-765A-40F9-AD12-6F299689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6A281-0468-44F9-B994-932C87E9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E9E9B-5A99-446A-8914-49D02B6F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0EBFB-C61D-46C2-8DE4-3545C9FC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B0C9E-32E3-4CD7-8C92-8A652B73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可选过程 1025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e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新月形 1026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新月形 1027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新月形 1028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流程图: 可选过程 1029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2E71-4E9E-4C2F-A415-67ACDA16C5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5142-2B2F-4296-926B-16ECC4F373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3F24-FE32-4731-90E2-CE7DE18510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327E-257B-4895-8F5E-29490F6EC7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C8EC-62D8-43DD-B37E-1C74A5E43F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6E56-6822-4784-B30A-3AC3008D5D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流程图: 可选过程 2049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d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新月形 2050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新月形 2051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新月形 2052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E609-7DB7-45F0-9D61-C29A1BA7DA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8FD4-DC27-4CE1-9A40-4C4F7EBB04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2E6B-D527-4DBB-B654-690D37DA1C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9284-017D-4D41-9724-841A28684F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DA47-BD96-4D7E-9152-298366E2E8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25BD-B687-4CE5-AF2F-26F99D5860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4,5,&#8212;&#8212;&#20102;&#35299;&#21592;&#24037;&#20351;&#29992;&#30005;&#33041;&#26102;&#27491;&#22312;&#20570;&#20160;&#20040;&#12290;" TargetMode="External"/><Relationship Id="rId2" Type="http://schemas.openxmlformats.org/officeDocument/2006/relationships/hyperlink" Target="265,6,&#8212;&#8212;&#20102;&#35299;&#21592;&#24037;&#20570;&#36807;&#20160;&#20040;&#65292;&#20197;&#20415;&#32771;&#23519;&#12290;" TargetMode="External"/><Relationship Id="rId3" Type="http://schemas.openxmlformats.org/officeDocument/2006/relationships/hyperlink" Target="266,7,&#8212;&#8212;&#35753;&#21592;&#24037;&#19978;&#29677;&#26102;&#38388;&#21482;&#33021;&#20570;&#19982;&#24037;&#20316;&#30456;&#20851;&#30340;&#20107;&#24773;&#65292;&#25552;&#39640;&#24037;&#20316;&#25928;&#29575;&#12290;" TargetMode="External"/><Relationship Id="rId4" Type="http://schemas.openxmlformats.org/officeDocument/2006/relationships/hyperlink" Target="274,8,&#31995;&#32479;&#21629;&#20196;&#65306;&#x0d;&#36828;&#31243;&#23545;&#21592;&#24037;&#31471;&#36827;&#34892;&#20851;&#26426;&#12289;&#37325;&#21551;&#12289;&#27880;&#38144;&#31561;&#25805;&#20316;&#65307;&#21521;&#36873;&#20013;&#21592;&#24037;&#31471;&#21457;&#36865;&#24191;&#25773;&#28040;&#24687;&#12290;" TargetMode="External"/><Relationship Id="rId5" Type="http://schemas.openxmlformats.org/officeDocument/2006/relationships/hyperlink" Target="275,9,&#33258;&#23450;&#20041;&#25253;&#35686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超  级  眼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副标题 5122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7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7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产品优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流程图: 可选过程 5"/>
          <p:cNvSpPr/>
          <p:nvPr/>
        </p:nvSpPr>
        <p:spPr>
          <a:xfrm rot="5400000">
            <a:off x="4909320" y="1111680"/>
            <a:ext cx="3823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"/>
          <p:cNvSpPr/>
          <p:nvPr/>
        </p:nvSpPr>
        <p:spPr>
          <a:xfrm>
            <a:off x="470304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7"/>
          <p:cNvGrpSpPr/>
          <p:nvPr/>
        </p:nvGrpSpPr>
        <p:grpSpPr>
          <a:xfrm>
            <a:off x="3124080" y="2133720"/>
            <a:ext cx="3834000" cy="228600"/>
            <a:chOff x="3124080" y="2133720"/>
            <a:chExt cx="3834000" cy="228600"/>
          </a:xfrm>
        </p:grpSpPr>
        <p:sp>
          <p:nvSpPr>
            <p:cNvPr id="674" name="左中括号 6"/>
            <p:cNvSpPr/>
            <p:nvPr/>
          </p:nvSpPr>
          <p:spPr>
            <a:xfrm rot="5400000">
              <a:off x="5002920" y="406800"/>
              <a:ext cx="76320" cy="38340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320 h 3834000"/>
                <a:gd name="textAreaBottom" fmla="*/ 382968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4"/>
            <p:cNvSpPr/>
            <p:nvPr/>
          </p:nvSpPr>
          <p:spPr>
            <a:xfrm>
              <a:off x="506052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3"/>
            <p:cNvSpPr/>
            <p:nvPr/>
          </p:nvSpPr>
          <p:spPr>
            <a:xfrm>
              <a:off x="5600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4"/>
            <p:cNvSpPr/>
            <p:nvPr/>
          </p:nvSpPr>
          <p:spPr>
            <a:xfrm>
              <a:off x="4200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8"/>
          <p:cNvSpPr/>
          <p:nvPr/>
        </p:nvSpPr>
        <p:spPr>
          <a:xfrm>
            <a:off x="2746080" y="2476440"/>
            <a:ext cx="60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隐蔽性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被控端毫无察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9"/>
          <p:cNvSpPr/>
          <p:nvPr/>
        </p:nvSpPr>
        <p:spPr>
          <a:xfrm>
            <a:off x="3828960" y="2514600"/>
            <a:ext cx="606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功能全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安全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0"/>
          <p:cNvSpPr/>
          <p:nvPr/>
        </p:nvSpPr>
        <p:spPr>
          <a:xfrm>
            <a:off x="5337000" y="2514600"/>
            <a:ext cx="60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支持多种电脑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要求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1"/>
          <p:cNvSpPr/>
          <p:nvPr/>
        </p:nvSpPr>
        <p:spPr>
          <a:xfrm>
            <a:off x="6632280" y="2562120"/>
            <a:ext cx="60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耐心的售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贴心的售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2"/>
          <p:cNvSpPr/>
          <p:nvPr/>
        </p:nvSpPr>
        <p:spPr>
          <a:xfrm>
            <a:off x="4343400" y="68580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为什么选择超级眼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右弧形箭头 1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应用范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我们能用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"/>
          <p:cNvSpPr/>
          <p:nvPr/>
        </p:nvSpPr>
        <p:spPr>
          <a:xfrm>
            <a:off x="4191120" y="3124080"/>
            <a:ext cx="1450800" cy="11210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"/>
          <p:cNvSpPr/>
          <p:nvPr/>
        </p:nvSpPr>
        <p:spPr>
          <a:xfrm>
            <a:off x="4343400" y="350532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超级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1"/>
          <p:cNvSpPr/>
          <p:nvPr/>
        </p:nvSpPr>
        <p:spPr>
          <a:xfrm>
            <a:off x="1981080" y="22860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2"/>
          <p:cNvSpPr/>
          <p:nvPr/>
        </p:nvSpPr>
        <p:spPr>
          <a:xfrm>
            <a:off x="4191120" y="91440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私营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3"/>
          <p:cNvSpPr/>
          <p:nvPr/>
        </p:nvSpPr>
        <p:spPr>
          <a:xfrm>
            <a:off x="6553080" y="243828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4"/>
          <p:cNvSpPr/>
          <p:nvPr/>
        </p:nvSpPr>
        <p:spPr>
          <a:xfrm>
            <a:off x="5943600" y="48006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2590920" y="472428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政府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行政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箭头 16"/>
          <p:cNvSpPr/>
          <p:nvPr/>
        </p:nvSpPr>
        <p:spPr>
          <a:xfrm rot="7880400">
            <a:off x="3891240" y="452340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右箭头 17"/>
          <p:cNvSpPr/>
          <p:nvPr/>
        </p:nvSpPr>
        <p:spPr>
          <a:xfrm rot="11703600">
            <a:off x="3399840" y="3101400"/>
            <a:ext cx="471240" cy="433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箭头 18"/>
          <p:cNvSpPr/>
          <p:nvPr/>
        </p:nvSpPr>
        <p:spPr>
          <a:xfrm rot="16200000">
            <a:off x="4705920" y="2379960"/>
            <a:ext cx="468360" cy="432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右箭头 19"/>
          <p:cNvSpPr/>
          <p:nvPr/>
        </p:nvSpPr>
        <p:spPr>
          <a:xfrm rot="20425800">
            <a:off x="6001920" y="311436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右箭头 20"/>
          <p:cNvSpPr/>
          <p:nvPr/>
        </p:nvSpPr>
        <p:spPr>
          <a:xfrm rot="2928600">
            <a:off x="5645160" y="452268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2"/>
          <p:cNvSpPr/>
          <p:nvPr/>
        </p:nvSpPr>
        <p:spPr>
          <a:xfrm>
            <a:off x="6950160" y="28195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台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外资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6317640" y="518148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学校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教育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2279160" y="27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国有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4"/>
          <p:cNvSpPr/>
          <p:nvPr/>
        </p:nvSpPr>
        <p:spPr>
          <a:xfrm>
            <a:off x="4724280" y="5334120"/>
            <a:ext cx="658800" cy="609480"/>
          </a:xfrm>
          <a:prstGeom prst="ellipse">
            <a:avLst/>
          </a:prstGeom>
          <a:solidFill>
            <a:srgbClr val="ceceef"/>
          </a:solidFill>
          <a:ln w="1260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"/>
          <p:cNvSpPr/>
          <p:nvPr/>
        </p:nvSpPr>
        <p:spPr>
          <a:xfrm>
            <a:off x="4952880" y="4495680"/>
            <a:ext cx="76320" cy="7632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7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"/>
          <p:cNvSpPr/>
          <p:nvPr/>
        </p:nvSpPr>
        <p:spPr>
          <a:xfrm>
            <a:off x="4952880" y="68580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"/>
          <p:cNvSpPr/>
          <p:nvPr/>
        </p:nvSpPr>
        <p:spPr>
          <a:xfrm>
            <a:off x="2209680" y="1981080"/>
            <a:ext cx="2813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宜兴市国税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扬州联通线缆电器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金华鼎鑫汽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如皋市金陵化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泰山玻璃纤维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建设雅马哈摩托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中研信息咨询管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沈阳索华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廊坊菊龙五金磨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赛象科技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三方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豪州万福房地产经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省清远灵龙房地产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博宇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金三航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永康般若进出口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"/>
          <p:cNvSpPr/>
          <p:nvPr/>
        </p:nvSpPr>
        <p:spPr>
          <a:xfrm>
            <a:off x="5715000" y="2057400"/>
            <a:ext cx="2992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正力佳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海顺商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吉力芸峰实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省大宏电子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今天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安市速达计算机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烟台市质量技术监督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科瑞石油装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方根数码微控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央储备粮济南直属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鼎成信息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徐州市铜山供电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市高明福家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威海光威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中软安人网络通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8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"/>
          <p:cNvSpPr/>
          <p:nvPr/>
        </p:nvSpPr>
        <p:spPr>
          <a:xfrm>
            <a:off x="5105520" y="762120"/>
            <a:ext cx="34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"/>
          <p:cNvSpPr/>
          <p:nvPr/>
        </p:nvSpPr>
        <p:spPr>
          <a:xfrm>
            <a:off x="2057400" y="2286000"/>
            <a:ext cx="3048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永强永强岩土工程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铭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华北制药集团动物保健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赢政工艺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海安县精诚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长丰热电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中国航空信息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锐众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亚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江苏东光微电子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余姚舜政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市通告高压泵制造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银兆网络科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同盛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"/>
          <p:cNvSpPr/>
          <p:nvPr/>
        </p:nvSpPr>
        <p:spPr>
          <a:xfrm>
            <a:off x="5257800" y="2286000"/>
            <a:ext cx="33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金信知识产权代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佳易计算机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科同向科技（北京）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海曙中启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赢山倍科贸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常州武进亚星卫生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恒策投资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中国科技大学产学研基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泉州市通典文化传播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嘉兴市伊清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易材数码图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天讯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六度设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华力电脑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"/>
          <p:cNvSpPr/>
          <p:nvPr/>
        </p:nvSpPr>
        <p:spPr>
          <a:xfrm>
            <a:off x="2133720" y="2057400"/>
            <a:ext cx="3311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深辉酒店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航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市中信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双禾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省淄博市中关村科技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中山市雅思家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石家庄海星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山环威实业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珠海中润靖杰打印机耗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绥化市泰伦英语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哈尔滨市奇凯信息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黑龙江广名会计师事务所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德龙企业管理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河北林南仓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延邑制模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5638680" y="2057400"/>
            <a:ext cx="3040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花都易大机械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蓝天航空经济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博斯软件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南方竹木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普庆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市康伟实业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泉州市迪光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四川警察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三屯钜熙鞋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力德国际贸易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长春大成生化饲料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市海诺曼奥信息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天翔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抚顺中宇建设（集团）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展盈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6"/>
          <p:cNvSpPr/>
          <p:nvPr/>
        </p:nvSpPr>
        <p:spPr>
          <a:xfrm>
            <a:off x="1600200" y="60958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提示：以上是一部分应用成功的客户，如不想再公开，请联系客服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关于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"/>
          <p:cNvSpPr/>
          <p:nvPr/>
        </p:nvSpPr>
        <p:spPr>
          <a:xfrm>
            <a:off x="4876920" y="76212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99"/>
          <p:cNvSpPr/>
          <p:nvPr/>
        </p:nvSpPr>
        <p:spPr>
          <a:xfrm>
            <a:off x="1905120" y="1371600"/>
            <a:ext cx="6352920" cy="39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1" sz="1200" spc="-1" strike="noStrike">
                <a:solidFill>
                  <a:srgbClr val="7f7f7f"/>
                </a:solidFill>
                <a:latin typeface="宋体"/>
              </a:rPr>
              <a:t>深圳市超时代软件有限公司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成立于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2005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年，总部设于深圳，专业从事数据安全监控产品的研发和销售，致力于为个人用户与单位企业提供全面的数据安全保护方案。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级眼监控软件是超时代软件公司旗下的主要产品，公司主站为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www.360drm.co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是国内较早从事加密安全领域研究的机构之一，拥有全面的信息防泄密产品线和解决方案，为客户提供安全、稳定、可靠的产品和服务。凭借核心研发团队多年的行业积累，超时代软件已申请多项技术发明专利，并拥有全部自主知识产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目前有多款企业级应用软件： 共享文件夹加密专家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U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盘防拷贝系统、超级眼监控软件（分内网版和外网版）、视频加密器和文档透明加密系统等。 公司将始终专注于提高企业员工工作效率方面的新产品研发和推广，坚持不懈地贯彻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精品战略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思想，带给客户更多的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新产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专注于信息安全领域，坚持高品质、高科技、高效率的原则，先后取得软件企业、高新企业等证书，产品通过了信息安全测试部门测评，取得了著作权和产品登记证书。一直以来，超时代软件不懈努力，竭诚为企业信息化管理建设奉献出一份力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宋体"/>
              </a:rPr>
              <a:t>联系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国统一服务热线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4000-186-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工作时间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一至周五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9:00 - 18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公司地址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广东省深圳市南山区科技文化广场华富洋大厦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4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楼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A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如果需要技术支持，请直接联系我们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，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通常也保持在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2057400" y="1447920"/>
            <a:ext cx="13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8193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ffdeab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4"/>
          <p:cNvSpPr/>
          <p:nvPr/>
        </p:nvSpPr>
        <p:spPr>
          <a:xfrm>
            <a:off x="2666880" y="190512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deab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超级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248040" y="5257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Su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6019920" y="609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H_Others_1"/>
          <p:cNvSpPr/>
          <p:nvPr/>
        </p:nvSpPr>
        <p:spPr>
          <a:xfrm>
            <a:off x="3597120" y="1297080"/>
            <a:ext cx="0" cy="4492440"/>
          </a:xfrm>
          <a:prstGeom prst="line">
            <a:avLst/>
          </a:prstGeom>
          <a:ln w="25560">
            <a:solidFill>
              <a:srgbClr val="e4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3794040" y="162864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软件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MH_Number_2"/>
          <p:cNvSpPr/>
          <p:nvPr/>
        </p:nvSpPr>
        <p:spPr>
          <a:xfrm>
            <a:off x="3398760" y="29192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MH_Others_2"/>
          <p:cNvSpPr/>
          <p:nvPr/>
        </p:nvSpPr>
        <p:spPr>
          <a:xfrm>
            <a:off x="754200" y="28083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华文中宋"/>
                <a:ea typeface="华文中宋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Others_3"/>
          <p:cNvSpPr/>
          <p:nvPr/>
        </p:nvSpPr>
        <p:spPr>
          <a:xfrm>
            <a:off x="754200" y="33321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华文细黑"/>
                <a:ea typeface="华文细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H_Number_2"/>
          <p:cNvSpPr/>
          <p:nvPr/>
        </p:nvSpPr>
        <p:spPr>
          <a:xfrm>
            <a:off x="3398760" y="16556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2"/>
          <p:cNvSpPr/>
          <p:nvPr/>
        </p:nvSpPr>
        <p:spPr>
          <a:xfrm>
            <a:off x="3398760" y="23036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Number_2"/>
          <p:cNvSpPr/>
          <p:nvPr/>
        </p:nvSpPr>
        <p:spPr>
          <a:xfrm>
            <a:off x="3398760" y="35672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Number_2"/>
          <p:cNvSpPr/>
          <p:nvPr/>
        </p:nvSpPr>
        <p:spPr>
          <a:xfrm>
            <a:off x="3398760" y="422280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Number_2"/>
          <p:cNvSpPr/>
          <p:nvPr/>
        </p:nvSpPr>
        <p:spPr>
          <a:xfrm>
            <a:off x="3398760" y="487692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Entry_1"/>
          <p:cNvSpPr/>
          <p:nvPr/>
        </p:nvSpPr>
        <p:spPr>
          <a:xfrm>
            <a:off x="3794040" y="22953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Entry_1"/>
          <p:cNvSpPr/>
          <p:nvPr/>
        </p:nvSpPr>
        <p:spPr>
          <a:xfrm>
            <a:off x="3798720" y="2892600"/>
            <a:ext cx="399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Entry_1"/>
          <p:cNvSpPr/>
          <p:nvPr/>
        </p:nvSpPr>
        <p:spPr>
          <a:xfrm>
            <a:off x="3814920" y="3559320"/>
            <a:ext cx="399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用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Entry_1"/>
          <p:cNvSpPr/>
          <p:nvPr/>
        </p:nvSpPr>
        <p:spPr>
          <a:xfrm>
            <a:off x="3814920" y="4183200"/>
            <a:ext cx="399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客户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Entry_1"/>
          <p:cNvSpPr/>
          <p:nvPr/>
        </p:nvSpPr>
        <p:spPr>
          <a:xfrm>
            <a:off x="3809880" y="48369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关于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标题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19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" descr="图片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81280" y="2133720"/>
            <a:ext cx="5457960" cy="40924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5"/>
          <p:cNvSpPr/>
          <p:nvPr/>
        </p:nvSpPr>
        <p:spPr>
          <a:xfrm>
            <a:off x="2209680" y="236232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超级眼 计算机管理系统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是超时代软件自主研发的，对计算机操作行为进行全面监控和管理的一款软件，可监控计算机所有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网址：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www.360mon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弧形箭头 3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1676160"/>
            <a:ext cx="2982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、实时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二、历史监控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、限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、远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五、实时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标注 15"/>
          <p:cNvSpPr/>
          <p:nvPr/>
        </p:nvSpPr>
        <p:spPr>
          <a:xfrm rot="10800000">
            <a:off x="5105160" y="1904400"/>
            <a:ext cx="3429000" cy="28573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5257800" y="2438280"/>
            <a:ext cx="312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超级眼软件分为内网版、外网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内网版是局域网内部监控，外网版是异地远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除此差异之外，二者功能完全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弧形箭头 4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605040" cy="1143000"/>
          </a:xfrm>
          <a:prstGeom prst="rect">
            <a:avLst/>
          </a:prstGeom>
          <a:ln w="0">
            <a:noFill/>
          </a:ln>
        </p:spPr>
      </p:pic>
      <p:sp>
        <p:nvSpPr>
          <p:cNvPr id="604" name="流程图: 可选过程 4"/>
          <p:cNvSpPr/>
          <p:nvPr/>
        </p:nvSpPr>
        <p:spPr>
          <a:xfrm>
            <a:off x="2135160" y="2754360"/>
            <a:ext cx="38268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"/>
          <p:cNvSpPr/>
          <p:nvPr/>
        </p:nvSpPr>
        <p:spPr>
          <a:xfrm>
            <a:off x="2094480" y="2771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时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左中括号 7"/>
          <p:cNvSpPr/>
          <p:nvPr/>
        </p:nvSpPr>
        <p:spPr>
          <a:xfrm>
            <a:off x="2819520" y="2085840"/>
            <a:ext cx="139680" cy="3108600"/>
          </a:xfrm>
          <a:custGeom>
            <a:avLst/>
            <a:gdLst>
              <a:gd name="textAreaLeft" fmla="*/ 41040 w 139680"/>
              <a:gd name="textAreaRight" fmla="*/ 140040 w 139680"/>
              <a:gd name="textAreaTop" fmla="*/ 5400 h 3108600"/>
              <a:gd name="textAreaBottom" fmla="*/ 31032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80"/>
                </a:cubicBezTo>
                <a:lnTo>
                  <a:pt x="0" y="21520"/>
                </a:lnTo>
                <a:cubicBezTo>
                  <a:pt x="0" y="2156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9"/>
          <p:cNvSpPr/>
          <p:nvPr/>
        </p:nvSpPr>
        <p:spPr>
          <a:xfrm>
            <a:off x="3200400" y="1905120"/>
            <a:ext cx="503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①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实时远程桌面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管理者及时了解所有员工动向，可通过实时桌面监控，或者多画面桌面监控可以了解员工当前的电脑桌面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"/>
          <p:cNvSpPr/>
          <p:nvPr/>
        </p:nvSpPr>
        <p:spPr>
          <a:xfrm>
            <a:off x="3200400" y="3429000"/>
            <a:ext cx="510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②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远程摄像头监控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实时查看被监控计算机摄像头的画面，可多画面实时监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"/>
          <p:cNvSpPr/>
          <p:nvPr/>
        </p:nvSpPr>
        <p:spPr>
          <a:xfrm>
            <a:off x="3200400" y="495288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③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流量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"/>
          <p:cNvSpPr/>
          <p:nvPr/>
        </p:nvSpPr>
        <p:spPr>
          <a:xfrm>
            <a:off x="3124080" y="5257800"/>
            <a:ext cx="52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员工计算机的流量进行实时监控，及时发现流量的异常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2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"/>
          <p:cNvSpPr/>
          <p:nvPr/>
        </p:nvSpPr>
        <p:spPr>
          <a:xfrm>
            <a:off x="4267080" y="685800"/>
            <a:ext cx="46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了解员工使用电脑时正在做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历史记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可选过程 4"/>
          <p:cNvSpPr/>
          <p:nvPr/>
        </p:nvSpPr>
        <p:spPr>
          <a:xfrm>
            <a:off x="1946160" y="2773440"/>
            <a:ext cx="384120" cy="18921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1913400" y="2640960"/>
            <a:ext cx="485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历史监控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左中括号 6"/>
          <p:cNvSpPr/>
          <p:nvPr/>
        </p:nvSpPr>
        <p:spPr>
          <a:xfrm>
            <a:off x="2514600" y="1676520"/>
            <a:ext cx="76320" cy="449568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4495680"/>
              <a:gd name="textAreaBottom" fmla="*/ 449280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"/>
                  <a:pt x="0" y="30"/>
                </a:cubicBezTo>
                <a:lnTo>
                  <a:pt x="0" y="21570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10"/>
          <p:cNvSpPr/>
          <p:nvPr/>
        </p:nvSpPr>
        <p:spPr>
          <a:xfrm>
            <a:off x="2514600" y="1676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11"/>
          <p:cNvSpPr/>
          <p:nvPr/>
        </p:nvSpPr>
        <p:spPr>
          <a:xfrm>
            <a:off x="2514600" y="6172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2"/>
          <p:cNvSpPr/>
          <p:nvPr/>
        </p:nvSpPr>
        <p:spPr>
          <a:xfrm>
            <a:off x="2516040" y="342900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3"/>
          <p:cNvSpPr/>
          <p:nvPr/>
        </p:nvSpPr>
        <p:spPr>
          <a:xfrm>
            <a:off x="2516040" y="2209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4"/>
          <p:cNvSpPr/>
          <p:nvPr/>
        </p:nvSpPr>
        <p:spPr>
          <a:xfrm>
            <a:off x="2516040" y="28195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5"/>
          <p:cNvSpPr/>
          <p:nvPr/>
        </p:nvSpPr>
        <p:spPr>
          <a:xfrm>
            <a:off x="2514600" y="41911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16"/>
          <p:cNvSpPr/>
          <p:nvPr/>
        </p:nvSpPr>
        <p:spPr>
          <a:xfrm>
            <a:off x="2516040" y="47242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17"/>
          <p:cNvSpPr/>
          <p:nvPr/>
        </p:nvSpPr>
        <p:spPr>
          <a:xfrm>
            <a:off x="2514600" y="54100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"/>
          <p:cNvSpPr/>
          <p:nvPr/>
        </p:nvSpPr>
        <p:spPr>
          <a:xfrm>
            <a:off x="2819520" y="1523880"/>
            <a:ext cx="5478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①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聊天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可以查看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、旺旺、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SKYPE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等常用聊天软件的聊天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820960" y="2057400"/>
            <a:ext cx="5357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②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程序运行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用户电脑上软件的使用时间，包括启动与结束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"/>
          <p:cNvSpPr/>
          <p:nvPr/>
        </p:nvSpPr>
        <p:spPr>
          <a:xfrm>
            <a:off x="2820960" y="2666880"/>
            <a:ext cx="541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③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屏幕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对员工计算机屏幕画面进行记录，再现员工之前在计算机上的一举一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"/>
          <p:cNvSpPr/>
          <p:nvPr/>
        </p:nvSpPr>
        <p:spPr>
          <a:xfrm>
            <a:off x="2820960" y="3276720"/>
            <a:ext cx="544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④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网址访问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各种浏览器的网页访问记录，自动记下网页的标题，网址以及访问   时间，方便管理者考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2820960" y="4038480"/>
            <a:ext cx="5443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⑤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文件操作记录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被控端所有的文件操作，包括创建，删除或复制文件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4"/>
          <p:cNvSpPr/>
          <p:nvPr/>
        </p:nvSpPr>
        <p:spPr>
          <a:xfrm>
            <a:off x="2820960" y="4572000"/>
            <a:ext cx="547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⑥ </a:t>
            </a:r>
            <a:r>
              <a:rPr b="1" lang="en-US" sz="1400" spc="-1" strike="noStrike">
                <a:solidFill>
                  <a:srgbClr val="262626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盘使用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清晰记录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盘和光盘的使用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5"/>
          <p:cNvSpPr/>
          <p:nvPr/>
        </p:nvSpPr>
        <p:spPr>
          <a:xfrm>
            <a:off x="2819520" y="5280120"/>
            <a:ext cx="5510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⑦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邮件收发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员工计算机所有收发的邮件，记录包括收发时间、收件人、发件人、标题和内容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2819520" y="6006960"/>
            <a:ext cx="54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⑧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其他：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开关机记录、键盘记录、剪贴板记录、报警记录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4343400" y="685800"/>
            <a:ext cx="45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了解员工做过什么，以便考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2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限制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流程图: 可选过程 5"/>
          <p:cNvSpPr/>
          <p:nvPr/>
        </p:nvSpPr>
        <p:spPr>
          <a:xfrm>
            <a:off x="1817640" y="3071880"/>
            <a:ext cx="3841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1767240" y="3057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限制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中括号 8"/>
          <p:cNvSpPr/>
          <p:nvPr/>
        </p:nvSpPr>
        <p:spPr>
          <a:xfrm>
            <a:off x="2286000" y="2209680"/>
            <a:ext cx="76320" cy="358164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3581640"/>
              <a:gd name="textAreaBottom" fmla="*/ 357876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"/>
          <p:cNvSpPr/>
          <p:nvPr/>
        </p:nvSpPr>
        <p:spPr>
          <a:xfrm>
            <a:off x="2514600" y="2133720"/>
            <a:ext cx="33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软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2517840" y="4929120"/>
            <a:ext cx="2361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硬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盘、光驱进行禁用，以避免员工使用与工作无关的计算机设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124080" y="19177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程序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3124080" y="2422440"/>
            <a:ext cx="15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网页访问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文件操作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-2147482613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45000" cy="24796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-2147482614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41760" cy="250344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9"/>
          <p:cNvSpPr/>
          <p:nvPr/>
        </p:nvSpPr>
        <p:spPr>
          <a:xfrm>
            <a:off x="4038480" y="76212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让员工上班时间只能做与工作相关的事情，提高工作效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"/>
          <p:cNvGrpSpPr/>
          <p:nvPr/>
        </p:nvGrpSpPr>
        <p:grpSpPr>
          <a:xfrm>
            <a:off x="2876400" y="2057400"/>
            <a:ext cx="247680" cy="1136520"/>
            <a:chOff x="2876400" y="2057400"/>
            <a:chExt cx="247680" cy="1136520"/>
          </a:xfrm>
        </p:grpSpPr>
        <p:sp>
          <p:nvSpPr>
            <p:cNvPr id="648" name="左中括号 4"/>
            <p:cNvSpPr/>
            <p:nvPr/>
          </p:nvSpPr>
          <p:spPr>
            <a:xfrm>
              <a:off x="3028680" y="2057400"/>
              <a:ext cx="75960" cy="113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880 h 1136520"/>
                <a:gd name="textAreaBottom" fmla="*/ 11336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60"/>
                    <a:pt x="0" y="120"/>
                  </a:cubicBezTo>
                  <a:lnTo>
                    <a:pt x="0" y="21480"/>
                  </a:lnTo>
                  <a:cubicBezTo>
                    <a:pt x="0" y="2154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4"/>
            <p:cNvSpPr/>
            <p:nvPr/>
          </p:nvSpPr>
          <p:spPr>
            <a:xfrm>
              <a:off x="2876400" y="2590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远程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2514600" y="2971800"/>
            <a:ext cx="384120" cy="120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2170440" y="3048120"/>
            <a:ext cx="790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远程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1"/>
          <p:cNvGrpSpPr/>
          <p:nvPr/>
        </p:nvGrpSpPr>
        <p:grpSpPr>
          <a:xfrm>
            <a:off x="2971800" y="2209680"/>
            <a:ext cx="247680" cy="2714760"/>
            <a:chOff x="2971800" y="2209680"/>
            <a:chExt cx="247680" cy="2714760"/>
          </a:xfrm>
        </p:grpSpPr>
        <p:sp>
          <p:nvSpPr>
            <p:cNvPr id="655" name="左中括号 4"/>
            <p:cNvSpPr/>
            <p:nvPr/>
          </p:nvSpPr>
          <p:spPr>
            <a:xfrm>
              <a:off x="3124080" y="2209680"/>
              <a:ext cx="76320" cy="27147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880 h 2714760"/>
                <a:gd name="textAreaBottom" fmla="*/ 271188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4"/>
            <p:cNvSpPr/>
            <p:nvPr/>
          </p:nvSpPr>
          <p:spPr>
            <a:xfrm>
              <a:off x="2971800" y="358092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6"/>
          <p:cNvSpPr/>
          <p:nvPr/>
        </p:nvSpPr>
        <p:spPr>
          <a:xfrm>
            <a:off x="3200400" y="2057400"/>
            <a:ext cx="556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远程文件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超级眼的文件管理功能，不仅可对员工文件进行远程复制、删除、删除、重命名等操作，还可以上传、下载，为批量下载员工端文件到管理端提供便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7"/>
          <p:cNvSpPr/>
          <p:nvPr/>
        </p:nvSpPr>
        <p:spPr>
          <a:xfrm>
            <a:off x="4419720" y="762120"/>
            <a:ext cx="44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轻松远程管理员工的计算机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8"/>
          <p:cNvSpPr/>
          <p:nvPr/>
        </p:nvSpPr>
        <p:spPr>
          <a:xfrm>
            <a:off x="3276720" y="3352680"/>
            <a:ext cx="5329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进程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在进程列表查看员工当前正在运行的进程，并可以结束选中的进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9"/>
          <p:cNvSpPr/>
          <p:nvPr/>
        </p:nvSpPr>
        <p:spPr>
          <a:xfrm>
            <a:off x="3276720" y="4572000"/>
            <a:ext cx="5235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系统命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远程对员工端进行关机、重启、注销等操作；向选中员工端发送广播消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-2147482609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84840" cy="399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实时报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4343400" y="609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全力保护企业利益：对员工的敏感操作实时报警、防泄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2286000" y="5791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插入</a:t>
            </a:r>
            <a:r>
              <a:rPr b="1" lang="en-US" sz="1400" spc="-1" strike="noStrike">
                <a:solidFill>
                  <a:srgbClr val="7f7f7f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盘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3809880" y="579132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拷贝带走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81480" y="5791320"/>
            <a:ext cx="20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变动自动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5"/>
          <p:cNvSpPr/>
          <p:nvPr/>
        </p:nvSpPr>
        <p:spPr>
          <a:xfrm>
            <a:off x="6858000" y="579132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自定义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右弧形箭头 17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7:22:00Z</dcterms:created>
  <dc:creator/>
  <dc:description/>
  <dc:language>en-US</dc:language>
  <cp:lastModifiedBy>hopo</cp:lastModifiedBy>
  <dcterms:modified xsi:type="dcterms:W3CDTF">2016-06-21T10:19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