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005B8-058E-4F53-AC19-DC204D15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22E99-08B7-489E-A74C-9D3CCEF3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DEF60-36D7-4B8C-AA9D-A50EAEF8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8F827-E31F-480F-B6DB-045DACE0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3B1F6-20F5-46E0-8D71-9E46F916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DDBC6-6894-41A7-B7C2-D58A3F13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0F943-D309-4D67-98B3-996017AA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D8E36-F03F-44B1-B2EA-F6537DDB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516FD-1605-4D84-85D5-0448B8B8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36E47-63D8-4FC1-8A4C-67C32CBA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89CC7-3369-4C36-BA86-57F5074B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7FD25-326E-4A87-B7DA-C77E852E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DD574-35AE-4E57-B66B-469A87FC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96BD6-CA44-4B86-83AB-3A2B1AF6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7131C-163A-4A13-9B46-5D6669A5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CAF67-7CBD-4E8C-A4B2-1C288489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95D62-628E-45C1-9528-83861434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E75C2-B3FA-4FF0-835A-F4C0E77A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5EF0A-4AEC-493A-AE4C-42B6E248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8642E-D30F-4DED-8263-770852B7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0272F-D921-428F-B28A-F7A5ABA8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2A6D2-A710-478E-ACA3-C29B5172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51460-2D09-4863-AC54-A6B4547D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D8417-F32C-46F6-BCAF-1BF695FE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5A867-49CA-473D-8B73-11164C91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35A0C-1B58-45B3-821A-090F430A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B35CE-8AEC-4594-924E-12533475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50F60-ED62-4FA2-9137-D90BF5BD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29BE9-ED8C-4494-B65A-DD485183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CE614-043C-4750-A302-45EBFD52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EAF-2BC3-4BCC-A288-7B7DC4FE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46F84-82F8-48A9-A712-9B00D03E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0DECD-F774-474F-B70B-9FD17CB2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F2273-BDC7-4B5A-A8B9-ADC1A304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6E4BA-ED0A-482B-A7A1-1CC8D773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66D94-72C6-4A17-8F58-1966C94B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F0A6C-30AC-4470-8EE6-A96F9BE9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D936A-5E45-4BCA-8B74-EA4DD9F8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11FBF-5D06-4022-B9D4-20539645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DF918-2752-4644-BA11-7B7E5C79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3576E-ED6C-4470-A375-90366C87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F9E0-225B-4E76-8F18-9B690625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F6305-65F7-45FB-81E0-DA31CA0C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947D5-F129-4F6D-BB35-D54E3035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7A76A-4AD5-473D-BF5D-9762B78A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74E9D-29F0-4091-A4AC-991AF6FF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AEC3D-9357-4B1A-9F88-3E7F3146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6A14E-1036-4633-AA27-0D7D9CBC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04AFD-698E-4E00-B075-6166D3DD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24B8F-1038-41F4-AE3D-EDB49717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56EA2-E8AB-457E-8833-9B3053B6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39208-15A5-4474-9DD2-01DC1E5F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9924-D008-4404-B6DA-CAB46BC2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11376-0ABB-46AC-8280-21F16BED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B2F9D-CE06-418E-915B-02C68690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1F3C4-2E3A-4193-AB71-C4106B7F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ED037-288C-4570-98F1-65887D18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920D2-3F79-4ABA-9882-9DECBC76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AE418-D934-4BFC-BB7D-6D883728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908F7-5BDC-4277-B7AF-F6606D1E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6A901-A9A3-4301-92A7-5914D37A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D3BA8-FFE4-4213-BB65-62724194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6A925-5DCA-4AEE-8C53-3836F9A9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D8A3-B124-40E7-9841-983E94B9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5CB2A-BEFC-44ED-9BB7-3E3FF491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A847E-E257-4B13-91FC-A0E8A551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A39C1-0807-4FA5-9243-70EC9189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A1ED9-278B-4156-BF07-3E5993DC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0913D-3B0E-4E06-9234-BE9CE198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222DF-A478-439A-8BCC-9BFB2DEB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CE86A-B66C-4F3E-A01A-B8DD4479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D8CB6-006D-46CB-8AD6-B6BCDD85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6815B-3D9D-4502-BE54-298442A2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FD1B-0F02-49DA-A208-83583C88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525F-E3E2-46A2-83E9-AB71DA8A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813F-E6C8-40AE-AC17-2A5E5E33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891D-3E9B-433B-AADD-B96D6048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4DCB-4E68-4F3D-AEDE-3BAA919C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4E0D-0830-4877-9022-CA8BE663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426D-E455-484D-AA8F-483A0C1B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3538-4693-48F3-B236-A50045F7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A1B6-7D23-427E-8EA6-E4A112C4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58FE-0ED7-4A0E-B7D3-A9B89193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0259-7B7F-4DF8-AABB-EC4DDC82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D6F3-AA4D-4E5D-9E59-A900989E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1FA1-3ADB-4633-97B6-344521ED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F4AE-BFBE-42C9-8968-6C3F3A32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9BAF-3632-4205-81BA-51BB9A95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8F88-46F9-479D-B43F-E010B2DE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32D0-0202-46BA-B2E1-05340151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AB9D-5350-4400-85DA-04253035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71CB-09A9-49F4-BB8D-76392757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0A45-2C07-48E5-893B-D5918C29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A0785-5DA0-47B2-A0D8-E0E5962E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E9CC4-3C55-4E09-ADAF-1D49C6AA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44653-17E4-43A8-B043-C6824D0A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E1DD4-47F7-46AD-B91D-FC77BCAA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1AD5D-3C8B-4C81-8499-6347473E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B78BB-4973-4B44-8D1A-3B0852B8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5A873-1D09-44B7-8DB9-4597E9F3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7EF34-DFD5-4F72-A1FB-0CE3D9E7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8F12D-B2D9-4607-81DF-0C6B5341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1EEDD-B95C-4AB0-A460-5DB29545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41E7B-5448-470E-A089-57AD53B9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9ED66-DCBB-42A4-8F70-0259F3F4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1123B-785A-4F85-8AD7-AD636515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4A222-03CA-430B-ADB0-13474E4D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F1A69-AF1B-4D49-B392-2E1452C4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4B8A3-B072-41F7-8C7C-83A9D5A6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6155A-399B-4581-A12C-C6C59C50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5932A-9DDB-4C36-AEAC-DF89895C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150B2-F55A-4444-893F-1FA2099C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9F735-B18C-4CFB-95A8-4610D766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0E9C9-41C5-4955-BEE3-1FB119DC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0ACA1-5B30-4B5F-BD63-B6B23D2F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904A4-31CC-4DDE-935B-25958003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ACE89-9BCC-42A6-8602-3A324C2A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5E635-D80B-4944-B967-2487AFF5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C2F46-3832-488D-938A-CEBE386E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47E79-5825-436C-B9BC-156CFCE5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7C21C-E48D-4099-8A2B-58356C3F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13B8C-F04A-4459-A8DE-7B69BB2D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38D4A-26CE-4A84-B805-9286B673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B6B59-5ADC-477E-853F-8A7BB8AC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A839A-99A5-4A21-B84C-66D28578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131E6-31C1-40E7-9688-B9657256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F6943-1461-48BC-9DD7-4722BD91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1C33B-5B4A-4F9B-A6DB-CAC1920C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C13EC-F36D-4B95-94FE-3B734DFE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DC15E-2BBE-4819-BDA7-146E2F76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0AB93-08D6-41E0-9EC4-B532B237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48DC9-1C47-41CB-B894-214294A6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52065-FF95-462E-8C74-9EEF31EC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BB5A0-3B5D-4CF6-99DC-B532A2BF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E65E3-D3DA-4848-B9A0-E060D2CC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5252E-38E4-45BA-891C-85982F00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176FA-275F-4E46-8889-92A408ED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558C0-13D2-4A8E-8C0B-0043D440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8BEBF-5282-43C8-A98C-FE747040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2B507-75C5-46C7-88E6-BCDE92F7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5A528-78C6-4B2A-AA88-2553F64F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8C2E2-0BD5-4054-B2E5-13A9A7FE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9DA18-2F25-4147-B2C3-69423BD5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1A51A-D673-4D02-886B-6FE2DB3D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流程图: 可选过程 1025"/>
          <p:cNvSpPr/>
          <p:nvPr/>
        </p:nvSpPr>
        <p:spPr>
          <a:xfrm>
            <a:off x="0" y="304920"/>
            <a:ext cx="9144000" cy="990360"/>
          </a:xfrm>
          <a:prstGeom prst="flowChartAlternateProcess">
            <a:avLst/>
          </a:prstGeom>
          <a:gradFill rotWithShape="0">
            <a:gsLst>
              <a:gs pos="0">
                <a:srgbClr val="ffe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新月形 1026"/>
          <p:cNvSpPr/>
          <p:nvPr/>
        </p:nvSpPr>
        <p:spPr>
          <a:xfrm rot="10800000">
            <a:off x="0" y="1447920"/>
            <a:ext cx="1905120" cy="320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510" y="614"/>
                  <a:pt x="3420" y="5080"/>
                  <a:pt x="3420" y="10800"/>
                </a:cubicBezTo>
                <a:cubicBezTo>
                  <a:pt x="3420" y="16520"/>
                  <a:pt x="12510" y="2098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2ff8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新月形 1027"/>
          <p:cNvSpPr/>
          <p:nvPr/>
        </p:nvSpPr>
        <p:spPr>
          <a:xfrm rot="10800000">
            <a:off x="0" y="685800"/>
            <a:ext cx="1676520" cy="541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29" y="656"/>
                  <a:pt x="3658" y="5080"/>
                  <a:pt x="3658" y="10800"/>
                </a:cubicBezTo>
                <a:cubicBezTo>
                  <a:pt x="3658" y="16520"/>
                  <a:pt x="12629" y="209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新月形 1028"/>
          <p:cNvSpPr/>
          <p:nvPr/>
        </p:nvSpPr>
        <p:spPr>
          <a:xfrm rot="10800000">
            <a:off x="0" y="1295280"/>
            <a:ext cx="1219320" cy="373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769" y="706"/>
                  <a:pt x="3937" y="5080"/>
                  <a:pt x="3937" y="10800"/>
                </a:cubicBezTo>
                <a:cubicBezTo>
                  <a:pt x="3937" y="16520"/>
                  <a:pt x="12769" y="2089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流程图: 可选过程 1029"/>
          <p:cNvSpPr/>
          <p:nvPr/>
        </p:nvSpPr>
        <p:spPr>
          <a:xfrm>
            <a:off x="1752480" y="1600200"/>
            <a:ext cx="7020000" cy="4495680"/>
          </a:xfrm>
          <a:prstGeom prst="flowChartAlternateProcess">
            <a:avLst/>
          </a:prstGeom>
          <a:solidFill>
            <a:srgbClr val="ffcc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E767-C7B4-441E-A06C-9C41E96EF8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399E-1063-4706-A57E-5D03BFBFEC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DA88-FC80-4B25-9BFD-B1A8EAEC30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3C0B-A081-40F8-A221-0681823DCD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938D-A0E2-4A58-A5C2-09E318E77B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BD14-F259-48E0-B91D-1EB6FF32B9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流程图: 可选过程 2049"/>
          <p:cNvSpPr/>
          <p:nvPr/>
        </p:nvSpPr>
        <p:spPr>
          <a:xfrm>
            <a:off x="0" y="2590920"/>
            <a:ext cx="9144000" cy="1218960"/>
          </a:xfrm>
          <a:prstGeom prst="flowChartAlternateProcess">
            <a:avLst/>
          </a:prstGeom>
          <a:gradFill rotWithShape="0">
            <a:gsLst>
              <a:gs pos="0">
                <a:srgbClr val="ffd9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新月形 2050"/>
          <p:cNvSpPr/>
          <p:nvPr/>
        </p:nvSpPr>
        <p:spPr>
          <a:xfrm rot="10800000">
            <a:off x="0" y="1447920"/>
            <a:ext cx="1905120" cy="320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510" y="614"/>
                  <a:pt x="3420" y="5080"/>
                  <a:pt x="3420" y="10800"/>
                </a:cubicBezTo>
                <a:cubicBezTo>
                  <a:pt x="3420" y="16520"/>
                  <a:pt x="12510" y="2098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2ff8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新月形 2051"/>
          <p:cNvSpPr/>
          <p:nvPr/>
        </p:nvSpPr>
        <p:spPr>
          <a:xfrm rot="10800000">
            <a:off x="0" y="685800"/>
            <a:ext cx="1676520" cy="541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29" y="656"/>
                  <a:pt x="3658" y="5080"/>
                  <a:pt x="3658" y="10800"/>
                </a:cubicBezTo>
                <a:cubicBezTo>
                  <a:pt x="3658" y="16520"/>
                  <a:pt x="12629" y="209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新月形 2052"/>
          <p:cNvSpPr/>
          <p:nvPr/>
        </p:nvSpPr>
        <p:spPr>
          <a:xfrm rot="10800000">
            <a:off x="0" y="1295280"/>
            <a:ext cx="1219320" cy="373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769" y="706"/>
                  <a:pt x="3937" y="5080"/>
                  <a:pt x="3937" y="10800"/>
                </a:cubicBezTo>
                <a:cubicBezTo>
                  <a:pt x="3937" y="16520"/>
                  <a:pt x="12769" y="2089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2E70-1662-45A7-9DAF-59A099C846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B478-23E0-4146-9A43-53DE3A5439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079E-DEF2-464B-8912-50F393623C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01E1-26F5-4FD7-A588-94F5FE6E0F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3D2F-715F-449F-9A91-C4B2DD4990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1FEF-A1C0-497F-B19D-A3F3852B9C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64,5,&#8212;&#8212;&#20102;&#35299;&#21592;&#24037;&#20351;&#29992;&#30005;&#33041;&#26102;&#27491;&#22312;&#20570;&#20160;&#20040;&#12290;" TargetMode="External"/><Relationship Id="rId2" Type="http://schemas.openxmlformats.org/officeDocument/2006/relationships/hyperlink" Target="265,6,&#8212;&#8212;&#20102;&#35299;&#21592;&#24037;&#20570;&#36807;&#20160;&#20040;&#65292;&#20197;&#20415;&#32771;&#23519;&#12290;" TargetMode="External"/><Relationship Id="rId3" Type="http://schemas.openxmlformats.org/officeDocument/2006/relationships/hyperlink" Target="266,7,&#8212;&#8212;&#35753;&#21592;&#24037;&#19978;&#29677;&#26102;&#38388;&#21482;&#33021;&#20570;&#19982;&#24037;&#20316;&#30456;&#20851;&#30340;&#20107;&#24773;&#65292;&#25552;&#39640;&#24037;&#20316;&#25928;&#29575;&#12290;" TargetMode="External"/><Relationship Id="rId4" Type="http://schemas.openxmlformats.org/officeDocument/2006/relationships/hyperlink" Target="274,8,&#31995;&#32479;&#21629;&#20196;&#65306;&#x0d;&#36828;&#31243;&#23545;&#21592;&#24037;&#31471;&#36827;&#34892;&#20851;&#26426;&#12289;&#37325;&#21551;&#12289;&#27880;&#38144;&#31561;&#25805;&#20316;&#65307;&#21521;&#36873;&#20013;&#21592;&#24037;&#31471;&#21457;&#36865;&#24191;&#25773;&#28040;&#24687;&#12290;" TargetMode="External"/><Relationship Id="rId5" Type="http://schemas.openxmlformats.org/officeDocument/2006/relationships/hyperlink" Target="275,9,&#33258;&#23450;&#20041;&#25253;&#35686;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超  级  眼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副标题 5122" descr=""/>
          <p:cNvPicPr/>
          <p:nvPr/>
        </p:nvPicPr>
        <p:blipFill>
          <a:blip r:embed="rId1"/>
          <a:stretch/>
        </p:blipFill>
        <p:spPr>
          <a:xfrm>
            <a:off x="1371600" y="3809880"/>
            <a:ext cx="64785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7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产品优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流程图: 可选过程 5"/>
          <p:cNvSpPr/>
          <p:nvPr/>
        </p:nvSpPr>
        <p:spPr>
          <a:xfrm rot="5400000">
            <a:off x="4909320" y="1111680"/>
            <a:ext cx="38232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2"/>
          <p:cNvSpPr/>
          <p:nvPr/>
        </p:nvSpPr>
        <p:spPr>
          <a:xfrm>
            <a:off x="470304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产品优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组合 7"/>
          <p:cNvGrpSpPr/>
          <p:nvPr/>
        </p:nvGrpSpPr>
        <p:grpSpPr>
          <a:xfrm>
            <a:off x="3124080" y="2133720"/>
            <a:ext cx="3834000" cy="228600"/>
            <a:chOff x="3124080" y="2133720"/>
            <a:chExt cx="3834000" cy="228600"/>
          </a:xfrm>
        </p:grpSpPr>
        <p:sp>
          <p:nvSpPr>
            <p:cNvPr id="674" name="左中括号 6"/>
            <p:cNvSpPr/>
            <p:nvPr/>
          </p:nvSpPr>
          <p:spPr>
            <a:xfrm rot="5400000">
              <a:off x="5002920" y="406800"/>
              <a:ext cx="76320" cy="383400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320 h 3834000"/>
                <a:gd name="textAreaBottom" fmla="*/ 3829680 h 38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5"/>
                    <a:pt x="0" y="50"/>
                  </a:cubicBezTo>
                  <a:lnTo>
                    <a:pt x="0" y="21550"/>
                  </a:lnTo>
                  <a:cubicBezTo>
                    <a:pt x="0" y="21575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直接连接符 14"/>
            <p:cNvSpPr/>
            <p:nvPr/>
          </p:nvSpPr>
          <p:spPr>
            <a:xfrm>
              <a:off x="5060520" y="2133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直接连接符 3"/>
            <p:cNvSpPr/>
            <p:nvPr/>
          </p:nvSpPr>
          <p:spPr>
            <a:xfrm>
              <a:off x="56008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4"/>
            <p:cNvSpPr/>
            <p:nvPr/>
          </p:nvSpPr>
          <p:spPr>
            <a:xfrm>
              <a:off x="42004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文本框 8"/>
          <p:cNvSpPr/>
          <p:nvPr/>
        </p:nvSpPr>
        <p:spPr>
          <a:xfrm>
            <a:off x="2746080" y="2476440"/>
            <a:ext cx="606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隐蔽性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被控端毫无察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9"/>
          <p:cNvSpPr/>
          <p:nvPr/>
        </p:nvSpPr>
        <p:spPr>
          <a:xfrm>
            <a:off x="3828960" y="2514600"/>
            <a:ext cx="60660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功能全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安全稳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10"/>
          <p:cNvSpPr/>
          <p:nvPr/>
        </p:nvSpPr>
        <p:spPr>
          <a:xfrm>
            <a:off x="5337000" y="2514600"/>
            <a:ext cx="606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支持多种电脑系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硬件要求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11"/>
          <p:cNvSpPr/>
          <p:nvPr/>
        </p:nvSpPr>
        <p:spPr>
          <a:xfrm>
            <a:off x="6632280" y="2562120"/>
            <a:ext cx="6066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耐心的售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贴心的售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12"/>
          <p:cNvSpPr/>
          <p:nvPr/>
        </p:nvSpPr>
        <p:spPr>
          <a:xfrm>
            <a:off x="4343400" y="685800"/>
            <a:ext cx="410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为什么选择超级眼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右弧形箭头 15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应用范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2"/>
          <p:cNvSpPr/>
          <p:nvPr/>
        </p:nvSpPr>
        <p:spPr>
          <a:xfrm>
            <a:off x="5181480" y="6858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我们能用吗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右弧形箭头 5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2"/>
          <p:cNvSpPr/>
          <p:nvPr/>
        </p:nvSpPr>
        <p:spPr>
          <a:xfrm>
            <a:off x="4191120" y="3124080"/>
            <a:ext cx="1450800" cy="112104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3"/>
          <p:cNvSpPr/>
          <p:nvPr/>
        </p:nvSpPr>
        <p:spPr>
          <a:xfrm>
            <a:off x="4343400" y="3505320"/>
            <a:ext cx="11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超级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11"/>
          <p:cNvSpPr/>
          <p:nvPr/>
        </p:nvSpPr>
        <p:spPr>
          <a:xfrm>
            <a:off x="1981080" y="2286000"/>
            <a:ext cx="131616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12"/>
          <p:cNvSpPr/>
          <p:nvPr/>
        </p:nvSpPr>
        <p:spPr>
          <a:xfrm>
            <a:off x="4191120" y="914400"/>
            <a:ext cx="131580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私营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13"/>
          <p:cNvSpPr/>
          <p:nvPr/>
        </p:nvSpPr>
        <p:spPr>
          <a:xfrm>
            <a:off x="6553080" y="2438280"/>
            <a:ext cx="131616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14"/>
          <p:cNvSpPr/>
          <p:nvPr/>
        </p:nvSpPr>
        <p:spPr>
          <a:xfrm>
            <a:off x="5943600" y="4800600"/>
            <a:ext cx="131616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椭圆 15"/>
          <p:cNvSpPr/>
          <p:nvPr/>
        </p:nvSpPr>
        <p:spPr>
          <a:xfrm>
            <a:off x="2590920" y="4724280"/>
            <a:ext cx="131580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政府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行政单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右箭头 16"/>
          <p:cNvSpPr/>
          <p:nvPr/>
        </p:nvSpPr>
        <p:spPr>
          <a:xfrm rot="7880400">
            <a:off x="3891240" y="4523400"/>
            <a:ext cx="471600" cy="431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右箭头 17"/>
          <p:cNvSpPr/>
          <p:nvPr/>
        </p:nvSpPr>
        <p:spPr>
          <a:xfrm rot="11703600">
            <a:off x="3399840" y="3101400"/>
            <a:ext cx="471240" cy="4330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右箭头 18"/>
          <p:cNvSpPr/>
          <p:nvPr/>
        </p:nvSpPr>
        <p:spPr>
          <a:xfrm rot="16200000">
            <a:off x="4705920" y="2379960"/>
            <a:ext cx="468360" cy="4320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右箭头 19"/>
          <p:cNvSpPr/>
          <p:nvPr/>
        </p:nvSpPr>
        <p:spPr>
          <a:xfrm rot="20425800">
            <a:off x="6001920" y="3114360"/>
            <a:ext cx="471600" cy="431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右箭头 20"/>
          <p:cNvSpPr/>
          <p:nvPr/>
        </p:nvSpPr>
        <p:spPr>
          <a:xfrm rot="2928600">
            <a:off x="5645160" y="4522680"/>
            <a:ext cx="471600" cy="4334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12"/>
          <p:cNvSpPr/>
          <p:nvPr/>
        </p:nvSpPr>
        <p:spPr>
          <a:xfrm>
            <a:off x="6950160" y="281952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台资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外资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13"/>
          <p:cNvSpPr/>
          <p:nvPr/>
        </p:nvSpPr>
        <p:spPr>
          <a:xfrm>
            <a:off x="6317640" y="518148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学校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教育机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14"/>
          <p:cNvSpPr/>
          <p:nvPr/>
        </p:nvSpPr>
        <p:spPr>
          <a:xfrm>
            <a:off x="2279160" y="2743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国有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4"/>
          <p:cNvSpPr/>
          <p:nvPr/>
        </p:nvSpPr>
        <p:spPr>
          <a:xfrm>
            <a:off x="4724280" y="5334120"/>
            <a:ext cx="658800" cy="609480"/>
          </a:xfrm>
          <a:prstGeom prst="ellipse">
            <a:avLst/>
          </a:prstGeom>
          <a:solidFill>
            <a:srgbClr val="ceceef"/>
          </a:solidFill>
          <a:ln w="1260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6"/>
          <p:cNvSpPr/>
          <p:nvPr/>
        </p:nvSpPr>
        <p:spPr>
          <a:xfrm>
            <a:off x="4952880" y="4495680"/>
            <a:ext cx="76320" cy="7632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7"/>
          <p:cNvSpPr/>
          <p:nvPr/>
        </p:nvSpPr>
        <p:spPr>
          <a:xfrm>
            <a:off x="4952880" y="4952880"/>
            <a:ext cx="152640" cy="15264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成功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2"/>
          <p:cNvSpPr/>
          <p:nvPr/>
        </p:nvSpPr>
        <p:spPr>
          <a:xfrm>
            <a:off x="4952880" y="685800"/>
            <a:ext cx="39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选择超级眼 选择成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3"/>
          <p:cNvSpPr/>
          <p:nvPr/>
        </p:nvSpPr>
        <p:spPr>
          <a:xfrm>
            <a:off x="2209680" y="1981080"/>
            <a:ext cx="28130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宜兴市国税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扬州联通线缆电器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金华鼎鑫汽车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如皋市金陵化工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泰山玻璃纤维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建设雅马哈摩托车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中研信息咨询管理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沈阳索华电子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廊坊菊龙五金磨具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天津赛象科技股份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三方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豪州万福房地产经营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东省清远灵龙房地产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省博宇电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金三航科技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永康般若进出口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辽宁省锦州中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4"/>
          <p:cNvSpPr/>
          <p:nvPr/>
        </p:nvSpPr>
        <p:spPr>
          <a:xfrm>
            <a:off x="5715000" y="2057400"/>
            <a:ext cx="29923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成都正力佳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海顺商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吉力芸峰实业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省大宏电子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今天计算机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安市速达计算机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烟台市质量技术监督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泰电子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山东科瑞石油装备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方根数码微控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中央储备粮济南直属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鼎成信息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徐州市铜山供电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佛山市高明福家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山东威海光威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杭州中软安人网络通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28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成功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2"/>
          <p:cNvSpPr/>
          <p:nvPr/>
        </p:nvSpPr>
        <p:spPr>
          <a:xfrm>
            <a:off x="5105520" y="762120"/>
            <a:ext cx="34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选择超级眼 选择成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4"/>
          <p:cNvSpPr/>
          <p:nvPr/>
        </p:nvSpPr>
        <p:spPr>
          <a:xfrm>
            <a:off x="2057400" y="2286000"/>
            <a:ext cx="3048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永强永强岩土工程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市铭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华北制药集团动物保健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大连威兰德国际物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赢政工艺制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海安县精诚电子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长丰热电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市中国航空信息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锐众软件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亚通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江苏东光微电子股份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余姚舜政电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天津市通告高压泵制造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银兆网络科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同盛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5"/>
          <p:cNvSpPr/>
          <p:nvPr/>
        </p:nvSpPr>
        <p:spPr>
          <a:xfrm>
            <a:off x="5257800" y="2286000"/>
            <a:ext cx="33498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金信知识产权代理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佳易计算机科技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中科同向科技（北京）有限责任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海曙中启网络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赢山倍科贸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常州武进亚星卫生用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恒策投资咨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中国科技大学产学研基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泉州市通典文化传播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嘉兴市伊清网络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易材数码图文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大连威兰德国际物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天津天讯成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六度设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华力电脑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成功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2"/>
          <p:cNvSpPr/>
          <p:nvPr/>
        </p:nvSpPr>
        <p:spPr>
          <a:xfrm>
            <a:off x="5181480" y="6858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选择超级眼 选择成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4"/>
          <p:cNvSpPr/>
          <p:nvPr/>
        </p:nvSpPr>
        <p:spPr>
          <a:xfrm>
            <a:off x="2133720" y="2057400"/>
            <a:ext cx="33112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深辉酒店用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东航泰电子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辽宁省锦州市中信网络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成都双禾科技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山东省淄博市中关村科技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东中山市雅思家具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石家庄海星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中山环威实业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珠海中润靖杰打印机耗材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绥化市泰伦英语学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哈尔滨市奇凯信息咨询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黑龙江广名会计师事务所有限责任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佛山德龙企业管理咨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河北林南仓中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东莞市延邑制模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5638680" y="2057400"/>
            <a:ext cx="30402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市花都易大机械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省蓝天航空经济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杭州博斯软件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南方竹木制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市普庆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温州市康伟实业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泉州市迪光科技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四川警察学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东莞市三屯钜熙鞋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力德国际贸易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长春大成生化饲料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市海诺曼奥信息科技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温州天翔网络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抚顺中宇建设（集团）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展盈计算机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6"/>
          <p:cNvSpPr/>
          <p:nvPr/>
        </p:nvSpPr>
        <p:spPr>
          <a:xfrm>
            <a:off x="1600200" y="6095880"/>
            <a:ext cx="686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提示：以上是一部分应用成功的客户，如不想再公开，请联系客服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右弧形箭头 8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关于我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2"/>
          <p:cNvSpPr/>
          <p:nvPr/>
        </p:nvSpPr>
        <p:spPr>
          <a:xfrm>
            <a:off x="4876920" y="762120"/>
            <a:ext cx="35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99"/>
          <p:cNvSpPr/>
          <p:nvPr/>
        </p:nvSpPr>
        <p:spPr>
          <a:xfrm>
            <a:off x="1905120" y="1371600"/>
            <a:ext cx="6352920" cy="39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1" sz="1200" spc="-1" strike="noStrike">
                <a:solidFill>
                  <a:srgbClr val="7f7f7f"/>
                </a:solidFill>
                <a:latin typeface="宋体"/>
              </a:rPr>
              <a:t>深圳市超时代软件有限公司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成立于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2005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年，总部设于深圳，专业从事数据安全监控产品的研发和销售，致力于为个人用户与单位企业提供全面的数据安全保护方案。 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(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级眼监控软件是超时代软件公司旗下的主要产品，公司主站为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www.360drm.com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时代软件是国内较早从事加密安全领域研究的机构之一，拥有全面的信息防泄密产品线和解决方案，为客户提供安全、稳定、可靠的产品和服务。凭借核心研发团队多年的行业积累，超时代软件已申请多项技术发明专利，并拥有全部自主知识产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时代软件目前有多款企业级应用软件： 共享文件夹加密专家、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U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盘防拷贝系统、超级眼监控软件（分内网版和外网版）、视频加密器和文档透明加密系统等。 公司将始终专注于提高企业员工工作效率方面的新产品研发和推广，坚持不懈地贯彻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精品战略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思想，带给客户更多的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全新产品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时代软件专注于信息安全领域，坚持高品质、高科技、高效率的原则，先后取得软件企业、高新企业等证书，产品通过了信息安全测试部门测评，取得了著作权和产品登记证书。一直以来，超时代软件不懈努力，竭诚为企业信息化管理建设奉献出一份力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1400" spc="-1" strike="noStrike">
                <a:solidFill>
                  <a:srgbClr val="000000"/>
                </a:solidFill>
                <a:latin typeface="宋体"/>
              </a:rPr>
              <a:t>联系方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全国统一服务热线 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: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4000-186-3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工作时间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: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周一至周五 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(9:00 - 18: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公司地址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: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广东省深圳市南山区科技文化广场华富洋大厦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4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楼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A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周末如果需要技术支持，请直接联系我们客服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QQ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，客服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QQ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周末通常也保持在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4"/>
          <p:cNvSpPr/>
          <p:nvPr/>
        </p:nvSpPr>
        <p:spPr>
          <a:xfrm>
            <a:off x="2057400" y="1447920"/>
            <a:ext cx="13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公司简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右弧形箭头 8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矩形 8193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gradFill rotWithShape="0">
            <a:gsLst>
              <a:gs pos="0">
                <a:srgbClr val="ffdeab"/>
              </a:gs>
              <a:gs pos="100000">
                <a:srgbClr val="ff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8194"/>
          <p:cNvSpPr/>
          <p:nvPr/>
        </p:nvSpPr>
        <p:spPr>
          <a:xfrm>
            <a:off x="2666880" y="1905120"/>
            <a:ext cx="38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ffdeab"/>
                </a:solidFill>
                <a:latin typeface="Arial"/>
                <a:ea typeface="微软雅黑"/>
              </a:rPr>
              <a:t>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5"/>
          <p:cNvSpPr/>
          <p:nvPr/>
        </p:nvSpPr>
        <p:spPr>
          <a:xfrm>
            <a:off x="324000" y="44370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超级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6"/>
          <p:cNvSpPr/>
          <p:nvPr/>
        </p:nvSpPr>
        <p:spPr>
          <a:xfrm>
            <a:off x="248040" y="52578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  <a:ea typeface="宋体"/>
              </a:rPr>
              <a:t>Super 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页脚占位符 1"/>
          <p:cNvSpPr/>
          <p:nvPr/>
        </p:nvSpPr>
        <p:spPr>
          <a:xfrm>
            <a:off x="6019920" y="60958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MH_Others_1"/>
          <p:cNvSpPr/>
          <p:nvPr/>
        </p:nvSpPr>
        <p:spPr>
          <a:xfrm>
            <a:off x="3597120" y="1297080"/>
            <a:ext cx="0" cy="4492440"/>
          </a:xfrm>
          <a:prstGeom prst="line">
            <a:avLst/>
          </a:prstGeom>
          <a:ln w="25560">
            <a:solidFill>
              <a:srgbClr val="e4f3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MH_Entry_1"/>
          <p:cNvSpPr/>
          <p:nvPr/>
        </p:nvSpPr>
        <p:spPr>
          <a:xfrm>
            <a:off x="3794040" y="1628640"/>
            <a:ext cx="399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软件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MH_Number_2"/>
          <p:cNvSpPr/>
          <p:nvPr/>
        </p:nvSpPr>
        <p:spPr>
          <a:xfrm>
            <a:off x="3398760" y="2919240"/>
            <a:ext cx="397080" cy="460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MH_Others_2"/>
          <p:cNvSpPr/>
          <p:nvPr/>
        </p:nvSpPr>
        <p:spPr>
          <a:xfrm>
            <a:off x="754200" y="2808360"/>
            <a:ext cx="1765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be0e3"/>
                </a:solidFill>
                <a:latin typeface="华文中宋"/>
                <a:ea typeface="华文中宋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MH_Others_3"/>
          <p:cNvSpPr/>
          <p:nvPr/>
        </p:nvSpPr>
        <p:spPr>
          <a:xfrm>
            <a:off x="754200" y="3332160"/>
            <a:ext cx="1765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华文细黑"/>
                <a:ea typeface="华文细黑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MH_Number_2"/>
          <p:cNvSpPr/>
          <p:nvPr/>
        </p:nvSpPr>
        <p:spPr>
          <a:xfrm>
            <a:off x="3398760" y="1655640"/>
            <a:ext cx="397080" cy="460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MH_Number_2"/>
          <p:cNvSpPr/>
          <p:nvPr/>
        </p:nvSpPr>
        <p:spPr>
          <a:xfrm>
            <a:off x="3398760" y="2303640"/>
            <a:ext cx="397080" cy="460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MH_Number_2"/>
          <p:cNvSpPr/>
          <p:nvPr/>
        </p:nvSpPr>
        <p:spPr>
          <a:xfrm>
            <a:off x="3398760" y="3567240"/>
            <a:ext cx="397080" cy="460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MH_Number_2"/>
          <p:cNvSpPr/>
          <p:nvPr/>
        </p:nvSpPr>
        <p:spPr>
          <a:xfrm>
            <a:off x="3398760" y="4222800"/>
            <a:ext cx="397080" cy="460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MH_Number_2"/>
          <p:cNvSpPr/>
          <p:nvPr/>
        </p:nvSpPr>
        <p:spPr>
          <a:xfrm>
            <a:off x="3398760" y="4876920"/>
            <a:ext cx="397080" cy="460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MH_Entry_1"/>
          <p:cNvSpPr/>
          <p:nvPr/>
        </p:nvSpPr>
        <p:spPr>
          <a:xfrm>
            <a:off x="3794040" y="2295360"/>
            <a:ext cx="399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功能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MH_Entry_1"/>
          <p:cNvSpPr/>
          <p:nvPr/>
        </p:nvSpPr>
        <p:spPr>
          <a:xfrm>
            <a:off x="3798720" y="2892600"/>
            <a:ext cx="39960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产品优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MH_Entry_1"/>
          <p:cNvSpPr/>
          <p:nvPr/>
        </p:nvSpPr>
        <p:spPr>
          <a:xfrm>
            <a:off x="3814920" y="3559320"/>
            <a:ext cx="3995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用范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MH_Entry_1"/>
          <p:cNvSpPr/>
          <p:nvPr/>
        </p:nvSpPr>
        <p:spPr>
          <a:xfrm>
            <a:off x="3814920" y="4183200"/>
            <a:ext cx="39956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客户案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MH_Entry_1"/>
          <p:cNvSpPr/>
          <p:nvPr/>
        </p:nvSpPr>
        <p:spPr>
          <a:xfrm>
            <a:off x="3809880" y="4836960"/>
            <a:ext cx="399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关于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标题 7169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51920" cy="114300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2" descr="图片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581280" y="2133720"/>
            <a:ext cx="5457960" cy="4092480"/>
          </a:xfrm>
          <a:prstGeom prst="rect">
            <a:avLst/>
          </a:prstGeom>
          <a:ln w="0">
            <a:noFill/>
          </a:ln>
        </p:spPr>
      </p:pic>
      <p:sp>
        <p:nvSpPr>
          <p:cNvPr id="596" name="文本框 5"/>
          <p:cNvSpPr/>
          <p:nvPr/>
        </p:nvSpPr>
        <p:spPr>
          <a:xfrm>
            <a:off x="2209680" y="2362320"/>
            <a:ext cx="36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超级眼 计算机管理系统</a:t>
            </a:r>
            <a:r>
              <a:rPr b="0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是超时代软件自主研发的，对计算机操作行为进行全面监控和管理的一款软件，可监控计算机所有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网址：</a:t>
            </a:r>
            <a:r>
              <a:rPr b="0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www.360mon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右弧形箭头 3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905120" y="1676160"/>
            <a:ext cx="298296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一、实时监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二、历史监控记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三、限制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四、远程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五、实时报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标注 15"/>
          <p:cNvSpPr/>
          <p:nvPr/>
        </p:nvSpPr>
        <p:spPr>
          <a:xfrm rot="10800000">
            <a:off x="5105160" y="1904400"/>
            <a:ext cx="3429000" cy="28573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14"/>
          <p:cNvSpPr/>
          <p:nvPr/>
        </p:nvSpPr>
        <p:spPr>
          <a:xfrm>
            <a:off x="5257800" y="2438280"/>
            <a:ext cx="3127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Arial"/>
                <a:ea typeface="宋体"/>
              </a:rPr>
              <a:t>超级眼软件分为内网版、外网版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Arial"/>
                <a:ea typeface="宋体"/>
              </a:rPr>
              <a:t>内网版是局域网内部监控，外网版是异地远程监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Arial"/>
                <a:ea typeface="宋体"/>
              </a:rPr>
              <a:t>除此差异之外，二者功能完全相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右弧形箭头 4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标题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3605040" cy="1143000"/>
          </a:xfrm>
          <a:prstGeom prst="rect">
            <a:avLst/>
          </a:prstGeom>
          <a:ln w="0">
            <a:noFill/>
          </a:ln>
        </p:spPr>
      </p:pic>
      <p:sp>
        <p:nvSpPr>
          <p:cNvPr id="604" name="流程图: 可选过程 4"/>
          <p:cNvSpPr/>
          <p:nvPr/>
        </p:nvSpPr>
        <p:spPr>
          <a:xfrm>
            <a:off x="2135160" y="2754360"/>
            <a:ext cx="38268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5"/>
          <p:cNvSpPr/>
          <p:nvPr/>
        </p:nvSpPr>
        <p:spPr>
          <a:xfrm>
            <a:off x="2094480" y="277164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实时监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左中括号 7"/>
          <p:cNvSpPr/>
          <p:nvPr/>
        </p:nvSpPr>
        <p:spPr>
          <a:xfrm>
            <a:off x="2819520" y="2085840"/>
            <a:ext cx="139680" cy="3108600"/>
          </a:xfrm>
          <a:custGeom>
            <a:avLst/>
            <a:gdLst>
              <a:gd name="textAreaLeft" fmla="*/ 41040 w 139680"/>
              <a:gd name="textAreaRight" fmla="*/ 140040 w 139680"/>
              <a:gd name="textAreaTop" fmla="*/ 5400 h 3108600"/>
              <a:gd name="textAreaBottom" fmla="*/ 3103200 h 310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0"/>
                  <a:pt x="0" y="80"/>
                </a:cubicBezTo>
                <a:lnTo>
                  <a:pt x="0" y="21520"/>
                </a:lnTo>
                <a:cubicBezTo>
                  <a:pt x="0" y="2156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9"/>
          <p:cNvSpPr/>
          <p:nvPr/>
        </p:nvSpPr>
        <p:spPr>
          <a:xfrm>
            <a:off x="3200400" y="1905120"/>
            <a:ext cx="50324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①</a:t>
            </a: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实时远程桌面监控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宋体"/>
                <a:ea typeface="宋体"/>
              </a:rPr>
              <a:t>管理者及时了解所有员工动向，可通过实时桌面监控，或者多画面桌面监控可以了解员工当前的电脑桌面情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文本框 10"/>
          <p:cNvSpPr/>
          <p:nvPr/>
        </p:nvSpPr>
        <p:spPr>
          <a:xfrm>
            <a:off x="3200400" y="3429000"/>
            <a:ext cx="510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②</a:t>
            </a: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实时远程摄像头监控</a:t>
            </a:r>
            <a:r>
              <a:rPr b="1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实时查看被监控计算机摄像头的画面，可多画面实时监控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11"/>
          <p:cNvSpPr/>
          <p:nvPr/>
        </p:nvSpPr>
        <p:spPr>
          <a:xfrm>
            <a:off x="3200400" y="4952880"/>
            <a:ext cx="25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③</a:t>
            </a: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实时流量监控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2"/>
          <p:cNvSpPr/>
          <p:nvPr/>
        </p:nvSpPr>
        <p:spPr>
          <a:xfrm>
            <a:off x="3124080" y="5257800"/>
            <a:ext cx="52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可对员工计算机的流量进行实时监控，及时发现流量的异常情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接连接符 12"/>
          <p:cNvSpPr/>
          <p:nvPr/>
        </p:nvSpPr>
        <p:spPr>
          <a:xfrm>
            <a:off x="27432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2"/>
          <p:cNvSpPr/>
          <p:nvPr/>
        </p:nvSpPr>
        <p:spPr>
          <a:xfrm>
            <a:off x="4267080" y="685800"/>
            <a:ext cx="461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了解员工使用电脑时正在做什么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右弧形箭头 5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历史记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流程图: 可选过程 4"/>
          <p:cNvSpPr/>
          <p:nvPr/>
        </p:nvSpPr>
        <p:spPr>
          <a:xfrm>
            <a:off x="1946160" y="2773440"/>
            <a:ext cx="384120" cy="189216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5"/>
          <p:cNvSpPr/>
          <p:nvPr/>
        </p:nvSpPr>
        <p:spPr>
          <a:xfrm>
            <a:off x="1913400" y="2640960"/>
            <a:ext cx="48528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历史监控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左中括号 6"/>
          <p:cNvSpPr/>
          <p:nvPr/>
        </p:nvSpPr>
        <p:spPr>
          <a:xfrm>
            <a:off x="2514600" y="1676520"/>
            <a:ext cx="76320" cy="4495680"/>
          </a:xfrm>
          <a:custGeom>
            <a:avLst/>
            <a:gdLst>
              <a:gd name="textAreaLeft" fmla="*/ 22320 w 76320"/>
              <a:gd name="textAreaRight" fmla="*/ 76320 w 76320"/>
              <a:gd name="textAreaTop" fmla="*/ 2880 h 4495680"/>
              <a:gd name="textAreaBottom" fmla="*/ 4492800 h 449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"/>
                  <a:pt x="0" y="30"/>
                </a:cubicBezTo>
                <a:lnTo>
                  <a:pt x="0" y="21570"/>
                </a:lnTo>
                <a:cubicBezTo>
                  <a:pt x="0" y="2158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直接连接符 10"/>
          <p:cNvSpPr/>
          <p:nvPr/>
        </p:nvSpPr>
        <p:spPr>
          <a:xfrm>
            <a:off x="2514600" y="167652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直接连接符 11"/>
          <p:cNvSpPr/>
          <p:nvPr/>
        </p:nvSpPr>
        <p:spPr>
          <a:xfrm>
            <a:off x="2514600" y="617220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直接连接符 12"/>
          <p:cNvSpPr/>
          <p:nvPr/>
        </p:nvSpPr>
        <p:spPr>
          <a:xfrm>
            <a:off x="2516040" y="342900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直接连接符 13"/>
          <p:cNvSpPr/>
          <p:nvPr/>
        </p:nvSpPr>
        <p:spPr>
          <a:xfrm>
            <a:off x="2516040" y="220968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直接连接符 14"/>
          <p:cNvSpPr/>
          <p:nvPr/>
        </p:nvSpPr>
        <p:spPr>
          <a:xfrm>
            <a:off x="2516040" y="281952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直接连接符 15"/>
          <p:cNvSpPr/>
          <p:nvPr/>
        </p:nvSpPr>
        <p:spPr>
          <a:xfrm>
            <a:off x="2514600" y="419112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直接连接符 16"/>
          <p:cNvSpPr/>
          <p:nvPr/>
        </p:nvSpPr>
        <p:spPr>
          <a:xfrm>
            <a:off x="2516040" y="472428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直接连接符 17"/>
          <p:cNvSpPr/>
          <p:nvPr/>
        </p:nvSpPr>
        <p:spPr>
          <a:xfrm>
            <a:off x="2514600" y="541008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18"/>
          <p:cNvSpPr/>
          <p:nvPr/>
        </p:nvSpPr>
        <p:spPr>
          <a:xfrm>
            <a:off x="2819520" y="1523880"/>
            <a:ext cx="5478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①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聊天监控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可以查看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QQ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、旺旺、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SKYPE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等常用聊天软件的聊天记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19"/>
          <p:cNvSpPr/>
          <p:nvPr/>
        </p:nvSpPr>
        <p:spPr>
          <a:xfrm>
            <a:off x="2820960" y="2057400"/>
            <a:ext cx="5357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②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程序运行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详细记录用户电脑上软件的使用时间，包括启动与结束时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21"/>
          <p:cNvSpPr/>
          <p:nvPr/>
        </p:nvSpPr>
        <p:spPr>
          <a:xfrm>
            <a:off x="2820960" y="2666880"/>
            <a:ext cx="5415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③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屏幕监控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对员工计算机屏幕画面进行记录，再现员工之前在计算机上的一举一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22"/>
          <p:cNvSpPr/>
          <p:nvPr/>
        </p:nvSpPr>
        <p:spPr>
          <a:xfrm>
            <a:off x="2820960" y="3276720"/>
            <a:ext cx="5446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④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网址访问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详细记录各种浏览器的网页访问记录，自动记下网页的标题，网址以及访问   时间，方便管理者考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23"/>
          <p:cNvSpPr/>
          <p:nvPr/>
        </p:nvSpPr>
        <p:spPr>
          <a:xfrm>
            <a:off x="2820960" y="4038480"/>
            <a:ext cx="54435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⑤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文件操作记录</a:t>
            </a: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记录被控端所有的文件操作，包括创建，删除或复制文件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24"/>
          <p:cNvSpPr/>
          <p:nvPr/>
        </p:nvSpPr>
        <p:spPr>
          <a:xfrm>
            <a:off x="2820960" y="4572000"/>
            <a:ext cx="5472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宋体"/>
              </a:rPr>
              <a:t>⑥ </a:t>
            </a:r>
            <a:r>
              <a:rPr b="1" lang="en-US" sz="1400" spc="-1" strike="noStrike">
                <a:solidFill>
                  <a:srgbClr val="262626"/>
                </a:solidFill>
                <a:latin typeface="宋体"/>
              </a:rPr>
              <a:t>U</a:t>
            </a:r>
            <a:r>
              <a:rPr b="1" lang="zh-CN" sz="1400" spc="-1" strike="noStrike">
                <a:solidFill>
                  <a:srgbClr val="262626"/>
                </a:solidFill>
                <a:latin typeface="宋体"/>
              </a:rPr>
              <a:t>盘使用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清晰记录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U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盘和光盘的使用记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文本框 25"/>
          <p:cNvSpPr/>
          <p:nvPr/>
        </p:nvSpPr>
        <p:spPr>
          <a:xfrm>
            <a:off x="2819520" y="5280120"/>
            <a:ext cx="55101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⑦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邮件收发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记录员工计算机所有收发的邮件，记录包括收发时间、收件人、发件人、标题和内容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26"/>
          <p:cNvSpPr/>
          <p:nvPr/>
        </p:nvSpPr>
        <p:spPr>
          <a:xfrm>
            <a:off x="2819520" y="6006960"/>
            <a:ext cx="545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⑧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其他：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开关机记录、键盘记录、剪贴板记录、报警记录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2"/>
          <p:cNvSpPr/>
          <p:nvPr/>
        </p:nvSpPr>
        <p:spPr>
          <a:xfrm>
            <a:off x="4343400" y="685800"/>
            <a:ext cx="45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了解员工做过什么，以便考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右弧形箭头 8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2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限制功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流程图: 可选过程 5"/>
          <p:cNvSpPr/>
          <p:nvPr/>
        </p:nvSpPr>
        <p:spPr>
          <a:xfrm>
            <a:off x="1817640" y="3071880"/>
            <a:ext cx="38412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6"/>
          <p:cNvSpPr/>
          <p:nvPr/>
        </p:nvSpPr>
        <p:spPr>
          <a:xfrm>
            <a:off x="1767240" y="3057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限制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左中括号 8"/>
          <p:cNvSpPr/>
          <p:nvPr/>
        </p:nvSpPr>
        <p:spPr>
          <a:xfrm>
            <a:off x="2286000" y="2209680"/>
            <a:ext cx="76320" cy="3581640"/>
          </a:xfrm>
          <a:custGeom>
            <a:avLst/>
            <a:gdLst>
              <a:gd name="textAreaLeft" fmla="*/ 22320 w 76320"/>
              <a:gd name="textAreaRight" fmla="*/ 76320 w 76320"/>
              <a:gd name="textAreaTop" fmla="*/ 2880 h 3581640"/>
              <a:gd name="textAreaBottom" fmla="*/ 3578760 h 358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"/>
                  <a:pt x="0" y="38"/>
                </a:cubicBezTo>
                <a:lnTo>
                  <a:pt x="0" y="21562"/>
                </a:lnTo>
                <a:cubicBezTo>
                  <a:pt x="0" y="2158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2"/>
          <p:cNvSpPr/>
          <p:nvPr/>
        </p:nvSpPr>
        <p:spPr>
          <a:xfrm>
            <a:off x="2514600" y="2133720"/>
            <a:ext cx="33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软件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3"/>
          <p:cNvSpPr/>
          <p:nvPr/>
        </p:nvSpPr>
        <p:spPr>
          <a:xfrm>
            <a:off x="2517840" y="4929120"/>
            <a:ext cx="23619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硬件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可对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U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盘、光驱进行禁用，以避免员工使用与工作无关的计算机设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6"/>
          <p:cNvSpPr/>
          <p:nvPr/>
        </p:nvSpPr>
        <p:spPr>
          <a:xfrm>
            <a:off x="3124080" y="1917720"/>
            <a:ext cx="10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程序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7"/>
          <p:cNvSpPr/>
          <p:nvPr/>
        </p:nvSpPr>
        <p:spPr>
          <a:xfrm>
            <a:off x="3124080" y="2422440"/>
            <a:ext cx="1522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网页访问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文件操作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图片 -2147482613" descr=""/>
          <p:cNvPicPr/>
          <p:nvPr/>
        </p:nvPicPr>
        <p:blipFill>
          <a:blip r:embed="rId1"/>
          <a:stretch/>
        </p:blipFill>
        <p:spPr>
          <a:xfrm>
            <a:off x="5029200" y="3962520"/>
            <a:ext cx="3645000" cy="2479680"/>
          </a:xfrm>
          <a:prstGeom prst="rect">
            <a:avLst/>
          </a:prstGeom>
          <a:ln w="0">
            <a:noFill/>
          </a:ln>
        </p:spPr>
      </p:pic>
      <p:pic>
        <p:nvPicPr>
          <p:cNvPr id="645" name="图片 -2147482614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641760" cy="2503440"/>
          </a:xfrm>
          <a:prstGeom prst="rect">
            <a:avLst/>
          </a:prstGeom>
          <a:ln w="0">
            <a:noFill/>
          </a:ln>
        </p:spPr>
      </p:pic>
      <p:sp>
        <p:nvSpPr>
          <p:cNvPr id="646" name="文本框 9"/>
          <p:cNvSpPr/>
          <p:nvPr/>
        </p:nvSpPr>
        <p:spPr>
          <a:xfrm>
            <a:off x="4038480" y="762120"/>
            <a:ext cx="50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让员工上班时间只能做与工作相关的事情，提高工作效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组合 11"/>
          <p:cNvGrpSpPr/>
          <p:nvPr/>
        </p:nvGrpSpPr>
        <p:grpSpPr>
          <a:xfrm>
            <a:off x="2876400" y="2057400"/>
            <a:ext cx="247680" cy="1136520"/>
            <a:chOff x="2876400" y="2057400"/>
            <a:chExt cx="247680" cy="1136520"/>
          </a:xfrm>
        </p:grpSpPr>
        <p:sp>
          <p:nvSpPr>
            <p:cNvPr id="648" name="左中括号 4"/>
            <p:cNvSpPr/>
            <p:nvPr/>
          </p:nvSpPr>
          <p:spPr>
            <a:xfrm>
              <a:off x="3028680" y="2057400"/>
              <a:ext cx="75960" cy="113652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2880 h 1136520"/>
                <a:gd name="textAreaBottom" fmla="*/ 1133640 h 113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60"/>
                    <a:pt x="0" y="120"/>
                  </a:cubicBezTo>
                  <a:lnTo>
                    <a:pt x="0" y="21480"/>
                  </a:lnTo>
                  <a:cubicBezTo>
                    <a:pt x="0" y="2154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直接连接符 14"/>
            <p:cNvSpPr/>
            <p:nvPr/>
          </p:nvSpPr>
          <p:spPr>
            <a:xfrm>
              <a:off x="2876400" y="25905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右弧形箭头 12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远程管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流程图: 可选过程 5"/>
          <p:cNvSpPr/>
          <p:nvPr/>
        </p:nvSpPr>
        <p:spPr>
          <a:xfrm>
            <a:off x="2514600" y="2971800"/>
            <a:ext cx="384120" cy="120636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3"/>
          <p:cNvSpPr/>
          <p:nvPr/>
        </p:nvSpPr>
        <p:spPr>
          <a:xfrm>
            <a:off x="2170440" y="3048120"/>
            <a:ext cx="7902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远程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组合 11"/>
          <p:cNvGrpSpPr/>
          <p:nvPr/>
        </p:nvGrpSpPr>
        <p:grpSpPr>
          <a:xfrm>
            <a:off x="2971800" y="2209680"/>
            <a:ext cx="247680" cy="2714760"/>
            <a:chOff x="2971800" y="2209680"/>
            <a:chExt cx="247680" cy="2714760"/>
          </a:xfrm>
        </p:grpSpPr>
        <p:sp>
          <p:nvSpPr>
            <p:cNvPr id="655" name="左中括号 4"/>
            <p:cNvSpPr/>
            <p:nvPr/>
          </p:nvSpPr>
          <p:spPr>
            <a:xfrm>
              <a:off x="3124080" y="2209680"/>
              <a:ext cx="76320" cy="27147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2880 h 2714760"/>
                <a:gd name="textAreaBottom" fmla="*/ 2711880 h 271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5"/>
                    <a:pt x="0" y="50"/>
                  </a:cubicBezTo>
                  <a:lnTo>
                    <a:pt x="0" y="21550"/>
                  </a:lnTo>
                  <a:cubicBezTo>
                    <a:pt x="0" y="21575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直接连接符 14"/>
            <p:cNvSpPr/>
            <p:nvPr/>
          </p:nvSpPr>
          <p:spPr>
            <a:xfrm>
              <a:off x="2971800" y="358092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文本框 6"/>
          <p:cNvSpPr/>
          <p:nvPr/>
        </p:nvSpPr>
        <p:spPr>
          <a:xfrm>
            <a:off x="3200400" y="2057400"/>
            <a:ext cx="5560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远程文件管理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超级眼的文件管理功能，不仅可对员工文件进行远程复制、删除、删除、重命名等操作，还可以上传、下载，为批量下载员工端文件到管理端提供便利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文本框 7"/>
          <p:cNvSpPr/>
          <p:nvPr/>
        </p:nvSpPr>
        <p:spPr>
          <a:xfrm>
            <a:off x="4419720" y="762120"/>
            <a:ext cx="444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轻松远程管理员工的计算机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文本框 8"/>
          <p:cNvSpPr/>
          <p:nvPr/>
        </p:nvSpPr>
        <p:spPr>
          <a:xfrm>
            <a:off x="3276720" y="3352680"/>
            <a:ext cx="5329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进程管理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在进程列表查看员工当前正在运行的进程，并可以结束选中的进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9"/>
          <p:cNvSpPr/>
          <p:nvPr/>
        </p:nvSpPr>
        <p:spPr>
          <a:xfrm>
            <a:off x="3276720" y="4572000"/>
            <a:ext cx="5235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系统命令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远程对员工端进行关机、重启、注销等操作；向选中员工端发送广播消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右弧形箭头 12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图片 -2147482609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5784840" cy="39924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11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实时报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2"/>
          <p:cNvSpPr/>
          <p:nvPr/>
        </p:nvSpPr>
        <p:spPr>
          <a:xfrm>
            <a:off x="4343400" y="609480"/>
            <a:ext cx="44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全力保护企业利益：对员工的敏感操作实时报警、防泄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11"/>
          <p:cNvSpPr/>
          <p:nvPr/>
        </p:nvSpPr>
        <p:spPr>
          <a:xfrm>
            <a:off x="2286000" y="5791320"/>
            <a:ext cx="167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插入</a:t>
            </a:r>
            <a:r>
              <a:rPr b="1" lang="en-US" sz="1400" spc="-1" strike="noStrike">
                <a:solidFill>
                  <a:srgbClr val="7f7f7f"/>
                </a:solidFill>
                <a:latin typeface="宋体"/>
              </a:rPr>
              <a:t>U</a:t>
            </a: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盘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12"/>
          <p:cNvSpPr/>
          <p:nvPr/>
        </p:nvSpPr>
        <p:spPr>
          <a:xfrm>
            <a:off x="3809880" y="5791320"/>
            <a:ext cx="15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拷贝带走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13"/>
          <p:cNvSpPr/>
          <p:nvPr/>
        </p:nvSpPr>
        <p:spPr>
          <a:xfrm>
            <a:off x="5181480" y="5791320"/>
            <a:ext cx="202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硬件变动自动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15"/>
          <p:cNvSpPr/>
          <p:nvPr/>
        </p:nvSpPr>
        <p:spPr>
          <a:xfrm>
            <a:off x="6858000" y="5791320"/>
            <a:ext cx="182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自定义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右弧形箭头 17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7:22:00Z</dcterms:created>
  <dc:creator/>
  <dc:description/>
  <dc:language>en-US</dc:language>
  <cp:lastModifiedBy>hopo</cp:lastModifiedBy>
  <dcterms:modified xsi:type="dcterms:W3CDTF">2016-06-21T10:19:08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  <property fmtid="{D5CDD505-2E9C-101B-9397-08002B2CF9AE}" pid="3" name="Version">
    <vt:r8>1</vt:r8>
  </property>
</Properties>
</file>